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FAC6-A1D1-448E-BE5D-F6DFD93E4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B281-B8FA-4DD5-8BE0-A58C304E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3D62-69A8-45E0-B260-BB38BB64C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A351-CCDD-48D8-BCC5-F67DB8DFA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4EB16-F7F0-4B20-B02C-BD06896F1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1F1B0-ED9A-459D-B6C5-5F34C8A69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6D1CF-A84B-4E9D-B562-B799DB96C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98A57-F69C-412E-B2E3-6CBF1AF2D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F9389-E157-46C7-B1ED-29F59BC25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49FA3-2C9A-49E2-B6D4-47B2FC11E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32615-CCED-422B-B214-27EC1B7F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68D3-31C7-4F27-831B-293E00BBD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FF181-64B4-43AF-8575-ACF972E3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0075C-7CFE-454E-8C67-65684691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2D337-5570-4AFC-AEB6-ACA417A87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992B4-28CE-4B86-8CCA-636048839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A78A0-F4D7-41C9-AF0A-EFB7E6C4A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76EE-DB76-45B0-8641-4BC92762D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87D4-3C53-4DE2-A293-D8A049AD6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63E6-C293-4C5E-9AF8-91EFB4DD0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B680-947A-4EF5-ADE8-816423624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0E0E-5B77-4183-A6EA-0A347EC8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955C-CF63-49A6-AEE2-69CB3957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4B0A-138B-469A-99AB-4AE31095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72CBA-7316-4FC8-B73E-25E88A0C09C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2B92F-7591-4278-BE8E-1E3CE26BA26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0968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c0039"/>
                </a:solidFill>
                <a:latin typeface="Arial"/>
              </a:rPr>
              <a:t>Me llamo _______            Clase 8Nv</a:t>
            </a:r>
            <a:br>
              <a:rPr sz="3000"/>
            </a:br>
            <a:r>
              <a:rPr b="0" lang="en-US" sz="3000" spc="-1" strike="noStrike">
                <a:solidFill>
                  <a:srgbClr val="8c0039"/>
                </a:solidFill>
                <a:latin typeface="Arial"/>
              </a:rPr>
              <a:t>La fecha es el 24 de enero del 2012</a:t>
            </a:r>
            <a:endParaRPr b="0" lang="en-US" sz="3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09320" y="1066680"/>
            <a:ext cx="6782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e4005c"/>
                </a:solidFill>
                <a:latin typeface="Arial"/>
              </a:rPr>
              <a:t>Propósito # 32: </a:t>
            </a:r>
            <a:r>
              <a:rPr b="0" lang="es-ES_tradnl" sz="3400" spc="-1" strike="noStrike">
                <a:solidFill>
                  <a:srgbClr val="000000"/>
                </a:solidFill>
                <a:latin typeface="Arial"/>
              </a:rPr>
              <a:t>¿Qué hora e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e4005c"/>
                </a:solidFill>
                <a:latin typeface="Arial"/>
              </a:rPr>
              <a:t>Actividad Inicial: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0000"/>
                </a:solidFill>
                <a:latin typeface="Arial"/>
              </a:rPr>
              <a:t>Copia: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Arial"/>
              </a:rPr>
              <a:t>¿Qué hora e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133720" y="3581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581280" y="342900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05520" y="342900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6553080" y="27432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905480" y="4724280"/>
            <a:ext cx="1649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Son las di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82360" y="4572000"/>
            <a:ext cx="12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Es la u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26520" y="4495680"/>
            <a:ext cx="164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Son las di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y cin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01520" y="3809880"/>
            <a:ext cx="1578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Es la una 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veinte 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cin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772400" y="2971800"/>
            <a:ext cx="1219320" cy="52056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__: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925040" y="365760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cuar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2019240" y="5105520"/>
            <a:ext cx="1181160" cy="121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3657600" y="502920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876920" y="5410080"/>
            <a:ext cx="1218960" cy="52056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__: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6477120" y="4952880"/>
            <a:ext cx="1066680" cy="10670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8"/>
          <a:stretch/>
        </p:blipFill>
        <p:spPr>
          <a:xfrm>
            <a:off x="7947000" y="4419720"/>
            <a:ext cx="1197000" cy="12189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905480" y="6172200"/>
            <a:ext cx="16498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Son las di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y cuar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05320" y="6019920"/>
            <a:ext cx="136836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Es la u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y cuar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30280" y="6019920"/>
            <a:ext cx="91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72560" y="6019920"/>
            <a:ext cx="164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Son las di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y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846200" y="5638680"/>
            <a:ext cx="136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Es la u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y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05120" y="151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005c"/>
                </a:solidFill>
                <a:latin typeface="Arial"/>
              </a:rPr>
              <a:t>REGLA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99172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s for writing ti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Left Side of clock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Right side of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124080" y="2514600"/>
            <a:ext cx="2667240" cy="26510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-338400" y="2438280"/>
            <a:ext cx="3707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on la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(“es la”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2) # of ho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ming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3) ”meno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4) # of min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until NEXT H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5) Time of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(if know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526360" y="2438280"/>
            <a:ext cx="3241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on la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(“es la”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) # of ho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) ”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) # of min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) Time of d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if know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:25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:15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:30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976120" y="2768760"/>
            <a:ext cx="4923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Son las dos y veinte y cin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27320" y="3962520"/>
            <a:ext cx="37195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Son las seis y cuar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26960" y="5195880"/>
            <a:ext cx="31647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Es la una y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362320" y="38095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area # 12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ee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Practica Oral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página 161-164, en voz al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actica Escri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gin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61-164 (1-2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rite the hours p. 165 (1-12) y (A-J) IN SPAN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90920" y="380880"/>
            <a:ext cx="6400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jercicio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9T14:29:06Z</dcterms:created>
  <dc:creator>Helen Zumaeta</dc:creator>
  <dc:description/>
  <dc:language>en-US</dc:language>
  <cp:lastModifiedBy>NYCDOE</cp:lastModifiedBy>
  <dcterms:modified xsi:type="dcterms:W3CDTF">2012-01-24T15:47:40Z</dcterms:modified>
  <cp:revision>3</cp:revision>
  <dc:subject/>
  <dc:title>Me llamo _______            Clase 10 NM La fecha es el 9 de noviembre del 2011</dc:title>
</cp:coreProperties>
</file>